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6144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6144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6144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6144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6144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614480"/>
            <a:ext cx="250236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6144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61448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614480"/>
            <a:ext cx="77724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17640"/>
            <a:ext cx="9132840" cy="6832440"/>
            <a:chOff x="0" y="17640"/>
            <a:chExt cx="9132840" cy="683244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2e5ce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17640"/>
              <a:ext cx="8397720" cy="683244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3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Group 6"/>
          <p:cNvGrpSpPr/>
          <p:nvPr/>
        </p:nvGrpSpPr>
        <p:grpSpPr>
          <a:xfrm>
            <a:off x="-1031760" y="1536840"/>
            <a:ext cx="10175760" cy="5324400"/>
            <a:chOff x="-1031760" y="1536840"/>
            <a:chExt cx="10175760" cy="5324400"/>
          </a:xfrm>
        </p:grpSpPr>
        <p:sp>
          <p:nvSpPr>
            <p:cNvPr id="44" name="Freeform 4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2e5ce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Arc 5"/>
            <p:cNvSpPr/>
            <p:nvPr/>
          </p:nvSpPr>
          <p:spPr>
            <a:xfrm>
              <a:off x="-1031760" y="1536840"/>
              <a:ext cx="6713280" cy="5324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hapter 12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URSUIT OF PERFEC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411444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vine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ee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redricks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lliam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r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0" y="63388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Extension of Educ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schools expanded rapidly from 1820 to 18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of advancement for working cla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of inculcating values of hard work, responsibility to middle-class refo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race Mann argued schools saved immigrants, poor children from parents’ bad influ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parents believed public schools alienated children from their par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covering the Asyl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or, criminal, insane seen as lacking self-discipl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sh measures to promote rehabil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itary confinement of priso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ct daily schedu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support for rehabilitation skim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sons, asylums, poorhouses became warehouses for the unwan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form Turns Radic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reform aimed to improve societ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radical reformers sought destruction of old society, creation of perfect social 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visions in the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nevolent Empi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cal perfectionists impatient by 1830s, split from moderate re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nce movement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ace m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tislavery moveme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rates sought gradual end to slavery and colonization of freed slaves to its colony of Lib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cals like William Lloyd Garrison demanded immediate emancip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31: Garrison founde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Liber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33: American Anti-Slavery Socie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Abolitionist Enterprise:  Public Recep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aled to hard-working small town fo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tion in cities &amp; near Mason-Dixon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sition from the working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liked black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ed black economic and social compet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citizens saw abolitionists as anarchi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Abolitionist Enterprise:  Obstacl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litionists hampered by in-figh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iam Lloyd Garrison disrupted movement by associating with radical reform eff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ged abolitionists to abstain from participating in the political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involved in women’s rights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bolitionists helped form the Liberty Party in 18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lack Abolitionis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r slaves related the horrible realities of bond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inent figures included Frederick Douglass and Sojourner Tr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 newspapers, books, and pamphlets publicized abolitionism to a wider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derick Douglass’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North St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acks were also active in the Underground Railr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rom Abolitionism to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omen's Righ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litionism opened to women’s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raised awareness of women’s ine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eca Falls Convention in 184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d by Lucretia Mott, Elizabeth Cady Stant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pted by experience of inequality in abolition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an movement for women’s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dical Ideas &amp; Experiments:  Utopian Commun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opian social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pired by Robert Owen, Charles Four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Harmony, Indiana—Owe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ierite phalanx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igious utopi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eida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topian Communities Before the Civil Wa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4" name="Picture 4" descr="DIVI7233244"/>
          <p:cNvPicPr/>
          <p:nvPr/>
        </p:nvPicPr>
        <p:blipFill>
          <a:blip r:embed="rId1"/>
          <a:stretch/>
        </p:blipFill>
        <p:spPr>
          <a:xfrm>
            <a:off x="2438280" y="1828800"/>
            <a:ext cx="4272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Rise of Evangelicalis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aration of church and state gave all churches the chance to compete for conv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ous Protestants formed voluntary associations to combat sin, “infidelit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adical Ideas &amp; Experiments:  Transcendentalis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lph Waldo Em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garet Fu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Rip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cooperative community at Brook F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David Thoreau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al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disobe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8" name="Content Placeholder 3" descr="600full-ralph-waldo-emerson.jpeg"/>
          <p:cNvPicPr/>
          <p:nvPr/>
        </p:nvPicPr>
        <p:blipFill>
          <a:blip r:embed="rId1"/>
          <a:srcRect l="-40869" t="0" r="-40869" b="0"/>
          <a:stretch/>
        </p:blipFill>
        <p:spPr>
          <a:xfrm>
            <a:off x="685800" y="1219320"/>
            <a:ext cx="77724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Content Placeholder 3" descr="community.gif"/>
          <p:cNvPicPr/>
          <p:nvPr/>
        </p:nvPicPr>
        <p:blipFill>
          <a:blip r:embed="rId1"/>
          <a:srcRect l="0" t="-18731" r="0" b="-18731"/>
          <a:stretch/>
        </p:blipFill>
        <p:spPr>
          <a:xfrm>
            <a:off x="457200" y="106668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2" name="Content Placeholder 3" descr="230px-Henry_David_Thoreau.jpeg"/>
          <p:cNvPicPr/>
          <p:nvPr/>
        </p:nvPicPr>
        <p:blipFill>
          <a:blip r:embed="rId1"/>
          <a:srcRect l="-39913" t="0" r="-39913" b="0"/>
          <a:stretch/>
        </p:blipFill>
        <p:spPr>
          <a:xfrm>
            <a:off x="685800" y="685800"/>
            <a:ext cx="77724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unterpoint on Refor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 encountered perceptive cri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haniel Hawthorne allegorically refuted perfectionist movements suggesting the world was inherently an imperfect 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orm prompted necessary changes in America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Second Great Awakening: The Frontier Pha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p meetings contributed to frontier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d emotional relig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er opportunity for social lif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p meeting revivals conveyed intensely personal religious me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mp meetings rarely led to social re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Second Great Awakening in the North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yman Beecher and evangelical Calvi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rles G. Fin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arted radically from Calvinist doct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eal is based in emotion not rea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ney preached in upstate New York and stressed revival techni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echer and others disturbed by emotionalism of Finney’s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vals led to organization of more chu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rom Revivalism to Refor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revivals stimulated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-class participants adapted evangelical religion to preserve traditional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he benevolent empire" of evangelical reform movements altered America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xample, temperance movement cut alcohol consumption by more than 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omesticity and Changes in the American Famil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conception of family’s role in soci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 rearing seen as essential preparation for self-disciplined Christia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confined to domestic 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assumed crucial role within h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rriage for Lov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tual love must characterize marr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ves became more of a companion to their husbands and less of a serv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ly, the husband was the unchallenged head of the house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Cult of Domestic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he Cult of True Womanhood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d women in the h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lorified home as center of all efforts to civilize and “Christianize”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- and upper-class women increasingly dedicated to the home as m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of leisure entered reform 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stitutional Refor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mesticity informed publ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ools continued what family be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ylums, prisons mended family’s fail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20:07:00Z</dcterms:created>
  <dc:creator>CMU</dc:creator>
  <dc:description/>
  <cp:keywords/>
  <dc:language>en-US</dc:language>
  <cp:lastModifiedBy>Matthew Myers</cp:lastModifiedBy>
  <cp:lastPrinted>2012-10-11T23:32:59Z</cp:lastPrinted>
  <dcterms:modified xsi:type="dcterms:W3CDTF">2011-10-19T15:07:33Z</dcterms:modified>
  <cp:revision>15</cp:revision>
  <dc:subject/>
  <dc:title>CHAPTER 11  THE PURSUIT OF PERFECTION</dc:title>
</cp:coreProperties>
</file>